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er l’ambiente operativo Solar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86 </a:t>
            </a:r>
            <a:br>
              <a:rPr sz="18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seguire le applicazioni per MS-DOS su Int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0880" y="152388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 per l’ambiente operativo Solaris x86 mette a disposizione la potente combinazione degli ambienti Solaris ed 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zie a Merge, gli utenti di Solaris x86 possono accedere a centinaia di applicazioni standard per 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 supporta inoltre le applicazioni per Microsoft Windows oltre alle applicazioni presenti nell’elenco certificato del software Wab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81480" y="1523880"/>
            <a:ext cx="37339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ulteriori informazion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Merge, chiamare il numero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2/434-1511 (dagli altri paesi), premere #1. In alternativa, accedere al nostro indirizzo su World Wide We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n.com/sunsoft/Products/PC-Integration-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81480" y="4495680"/>
            <a:ext cx="3733920" cy="21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formazioni su come acquista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, chiamare il numero 512/434-1511, premere #2. In alternativa, rivolgersi al rivenditore Sun lo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