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31760" cy="6845760"/>
            <a:chOff x="0" y="0"/>
            <a:chExt cx="9131760" cy="684576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3640" cy="5259600"/>
            </a:xfrm>
            <a:custGeom>
              <a:avLst/>
              <a:gdLst/>
              <a:ahLst/>
              <a:rect l="0" t="0" r="r" b="b"/>
              <a:pathLst>
                <a:path w="10399" h="14610">
                  <a:moveTo>
                    <a:pt x="8401" y="14606"/>
                  </a:moveTo>
                  <a:lnTo>
                    <a:pt x="10399" y="14610"/>
                  </a:lnTo>
                  <a:lnTo>
                    <a:pt x="10399" y="6336"/>
                  </a:lnTo>
                  <a:lnTo>
                    <a:pt x="0" y="0"/>
                  </a:lnTo>
                  <a:lnTo>
                    <a:pt x="886" y="661"/>
                  </a:lnTo>
                  <a:lnTo>
                    <a:pt x="1613" y="1230"/>
                  </a:lnTo>
                  <a:lnTo>
                    <a:pt x="2434" y="1944"/>
                  </a:lnTo>
                  <a:lnTo>
                    <a:pt x="3227" y="2698"/>
                  </a:lnTo>
                  <a:lnTo>
                    <a:pt x="4392" y="3981"/>
                  </a:lnTo>
                  <a:lnTo>
                    <a:pt x="5424" y="5344"/>
                  </a:lnTo>
                  <a:lnTo>
                    <a:pt x="6174" y="6535"/>
                  </a:lnTo>
                  <a:lnTo>
                    <a:pt x="6827" y="7766"/>
                  </a:lnTo>
                  <a:lnTo>
                    <a:pt x="7343" y="8996"/>
                  </a:lnTo>
                  <a:lnTo>
                    <a:pt x="7722" y="10121"/>
                  </a:lnTo>
                  <a:lnTo>
                    <a:pt x="7978" y="11073"/>
                  </a:lnTo>
                  <a:lnTo>
                    <a:pt x="8216" y="12251"/>
                  </a:lnTo>
                  <a:lnTo>
                    <a:pt x="8335" y="13283"/>
                  </a:lnTo>
                  <a:lnTo>
                    <a:pt x="8401" y="14606"/>
                  </a:lnTo>
                  <a:close/>
                </a:path>
              </a:pathLst>
            </a:custGeom>
            <a:gradFill rotWithShape="0">
              <a:gsLst>
                <a:gs pos="0">
                  <a:srgbClr val="cccc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411040" cy="6845760"/>
            </a:xfrm>
            <a:custGeom>
              <a:avLst/>
              <a:gdLst/>
              <a:ahLst/>
              <a:rect l="0" t="0" r="r" b="b"/>
              <a:pathLst>
                <a:path fill="none" w="23364" h="19016">
                  <a:moveTo>
                    <a:pt x="23364" y="19016"/>
                  </a:moveTo>
                  <a:lnTo>
                    <a:pt x="23364" y="19016"/>
                  </a:lnTo>
                  <a:lnTo>
                    <a:pt x="23364" y="19016"/>
                  </a:lnTo>
                  <a:cubicBezTo>
                    <a:pt x="23364" y="15678"/>
                    <a:pt x="22284" y="12399"/>
                    <a:pt x="20234" y="9508"/>
                  </a:cubicBezTo>
                  <a:cubicBezTo>
                    <a:pt x="18183" y="6617"/>
                    <a:pt x="15234" y="4217"/>
                    <a:pt x="11682" y="2548"/>
                  </a:cubicBezTo>
                  <a:cubicBezTo>
                    <a:pt x="8130" y="879"/>
                    <a:pt x="4101" y="0"/>
                    <a:pt x="0" y="0"/>
                  </a:cubicBezTo>
                </a:path>
              </a:pathLst>
            </a:custGeom>
            <a:ln w="12600">
              <a:solidFill>
                <a:srgbClr val="ffffff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 txBox="1"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SunPC</a:t>
            </a:r>
            <a:r>
              <a:rPr b="0" lang="en-US" sz="4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 Bundles</a:t>
            </a:r>
            <a:br>
              <a:rPr sz="1800"/>
            </a:b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un your MS-DOS applications on SPARC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"/>
          <p:cNvSpPr txBox="1"/>
          <p:nvPr/>
        </p:nvSpPr>
        <p:spPr>
          <a:xfrm>
            <a:off x="304920" y="1752480"/>
            <a:ext cx="462276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With a SunPC hardware/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oftware bundle, SPARC users get th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aste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lution for running MS-DOS applic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PC bundles also support Microsoft Windows applications beyond Wabi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™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oftware’s certified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000000"/>
              </a:buClr>
              <a:buSzPct val="75000"/>
              <a:buFont typeface="Wingdings"/>
              <a:buChar char=""/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PC 4.1 supports the most popular PC networking protocols, including TCP/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5181480" y="1752480"/>
            <a:ext cx="3854520" cy="285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 more information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n SunPC or other SunSoft products, call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-800-SUNSOFT (within the U.S.) or 512/434-1511 (outside the U.S.), Prompt #1. Or, visit our World Wide Web site a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sun.com/sunsoft/Products/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C-Integration-produc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5181480" y="5094360"/>
            <a:ext cx="36511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o purchase 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nPC contact your local Sun reseller or call SunExpress at 1-800-USESUN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