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para el entorno operativo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Ejecuta sus aplicaciones MS-DOS en Int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para el entorno operativo Solaris x86 pone al alcance de su mano la capacidad combinada de los entornos Solaris y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Merge, los usuarios de Solaris x86 tienen acceso a miles de nuevas aplicaciones para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admite más aplicaciones para Microsoft Windows que las certificadas para el software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rge sólo está disponible en inglés, pero admite versiones localizadas de MS-DOS, Microsoft Windows y aplicaciones para estos entornos.</a:t>
            </a: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Merge, llame al 512/434-1511 , Prompt #1, o acceda a nuestra dirección de World Wide We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69440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información sobre la compra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rge, llame al 512/434-1511, Prompt #2, o póngase en contacto con su distribuidor Sun más cerc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