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34880" y="15228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The Virtual Macintosh for Op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617840"/>
            <a:ext cx="465768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Macintosh® applications on your SPARC workstation running Solaris 2.3 or 2.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 gives you the full System 7.1 environment, including the Fi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 includes AppleTalk support, performance enhancements, Mac TCP, sound and much m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257800" y="1617840"/>
            <a:ext cx="373392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or more informatio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, access the MAE Web site at URL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mae.apple.c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access the MAE ftp site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support.apple.c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/pub/mae directory). A trial copy of MAE 1.0 is available on the current SunSoft Catalyst CDWare™ for SPARC®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57800" y="4770360"/>
            <a:ext cx="37339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o purchas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in the U.S. call 1-800-769-2775, ext. 7675 (code Sun1). Or, contact your local Apple resel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