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for the Solaris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x86 Operating Environment</a:t>
            </a:r>
            <a:br>
              <a:rPr sz="1800"/>
            </a:br>
            <a:r>
              <a:rPr b="0" i="1" lang="en-US" sz="2200" spc="-1" strike="noStrike">
                <a:solidFill>
                  <a:srgbClr val="f6bf69"/>
                </a:solidFill>
                <a:latin typeface="Arial"/>
                <a:ea typeface="Arial"/>
              </a:rPr>
              <a:t>Run your MS-DOS applications on Int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for the Solaris x86 Operating Environment places the combined power of the Solaris and MS-DOS environments at your fingert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Merge, Solaris x86 users have access to thousands of off-the-shelf MS-DO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also supports Microsoft Windows applications beyond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’s certified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523880"/>
            <a:ext cx="37339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or more informatio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erge or other SunSoft products, call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SUNSOFT (within the U.S.) or 512/434-1511 (outside the U.S.), Prompt #1. Or, access our World Wide Web site a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PC-Integration-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4495680"/>
            <a:ext cx="3733920" cy="21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 find out how to purchas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call 1-800-SUNSOFT (within the U.S.) or 512/434-1511 (outside the U.S.), Prompt #2. Or, contact your local Sun resel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